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6ADB-677D-4CFD-A308-4399D2140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:  Assessing Your Children’s Ministr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 is a matrix for you to use.  Each of the eight principles is based on a chapter in this book by Larry Fowler.  Each is listed, followed by four suggestions from the corresponding chapter as to how it might be accomplished in your church.  A blank line is included for you to add your own suggestions.  A rating scale is on the left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’s how to use it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Use the scale for a pretest with your children’s workers.  See how they rate your ministry right now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elf-test once every six months.  Track your progres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Finally, use it as a tool for peer evaluation when you ask another church to come give you its perspective on how you are doing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2DDB-DFC4-4E4A-9537-21ED4D764B4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Standards Scor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0CD1-27F7-47C5-8A07-9A508455DCE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1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Humanst521 BT"/>
              </a:rPr>
              <a:t>Ministering to children is a high prior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urch budgeting reflects a priority on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Facility use and conditions reflect the importance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ale:  1—Always true; 2—Trus most of the time; 3—Sometimes true; 4—Rarely true; 5—Never true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04E9-B5BD-4A49-A949-EDFADC00778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responsibility for children’s ministry first belongs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7792-0481-464B-AABF-328C3F8F0B6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3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ripture is the foundation of our content; relevance follow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criptural content is the primary criteria in choosing curricula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high value they place o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Learning Biblical truth is the foundational objective for all ag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Relevance to life is the basis for the application of Bible tru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B669-E72D-41C0-86E5-A3B8A474146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4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piritual training of children is the core lifestyle of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Parents receive regular, specific training on how to integrate God’s Word into their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Materials for the home are promoted and made available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Scripture memorization is a regular discipline encouraged in children’s ministry and in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4871-7F8A-418C-B622-B078065BF74A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5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Every child feels safe and loved at all tim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’s ministry workers are trained to build and maintain a healthy, proper relationship with stud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 protection policies and procedures are defined and implemented consistentl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F8E5-FDC4-45EF-9FE9-A915A06FF9A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6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serve God as soon as they are read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Opportunities abound for children to serve God in the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9D95-E75D-4404-BC24-D834A51BD54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7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’s workers communicate the gospel with clarity and urgenc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 regularly hear the gospel message and are allowed to respond as the Holy Spirit prompts them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Invitation methods do not confuse the child or muddle the messag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93A6-0194-4CD1-8C36-0FCE396B3F9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8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have regular opportunities to trust in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Evangelism of children is a priority of the church leadership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own children to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96C2-250C-4E4F-A008-C5CC3AD3F67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2D143-E5A8-4037-8BAF-8CD8C95F77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61DD3-F7BA-46E6-B764-C4C22AD59F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FE566-CD25-4A80-9706-030370E716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6FEC7-4AF0-45D8-B253-B8C9889B22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9EFEE-AE55-4F0D-BF7C-86C8329931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01AB7-EA62-4981-B3F7-58F3A59B3C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5AC60-F058-4DE6-8ED6-8E3639FCF4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BC762-6810-4781-BC69-5EABCB0C11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8A352-4001-48AE-90DF-B85CEBD956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F4623-B222-45A2-B782-EEBC729A31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5E078-B323-4F29-800D-4E16C7A634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83821-74DC-429E-AA90-55C9C09A70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8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8-</a:t>
            </a:r>
            <a:fld id="{E6BE81ED-A313-43FC-9A35-690932D6DFED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Tahoma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41840" y="4354560"/>
            <a:ext cx="5402160" cy="1303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Assessing Your</a:t>
            </a:r>
            <a:br>
              <a:rPr sz="3800"/>
            </a:b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Children’s Ministry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4409F109-6CAD-417F-A628-665D5268EE3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Humanst521 BT"/>
              </a:rPr>
              <a:t>Rock-Solid Standards Scoring</a:t>
            </a:r>
            <a:endParaRPr b="1" lang="en-US" sz="3400" spc="-1" strike="noStrike">
              <a:solidFill>
                <a:srgbClr val="ffffff"/>
              </a:solidFill>
              <a:latin typeface="Humanst521 BT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-1054080" y="1488960"/>
          <a:ext cx="1060776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54080" y="1488960"/>
                    <a:ext cx="1060776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96676F6C-961D-4699-9B93-B3F3A01933D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D13DB99E-B0E6-4696-B106-DCADFE82BB6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0" name="Rectangle 80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acility use and conditions reflect the importance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1" name="Rectangle 108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2" name="Rectangle 109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3" name="Rectangle 110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budgeting reflects a priority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1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Ministering to children is a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high priorit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2405160"/>
            <a:ext cx="1924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Text Box 64"/>
          <p:cNvSpPr/>
          <p:nvPr/>
        </p:nvSpPr>
        <p:spPr>
          <a:xfrm>
            <a:off x="0" y="335124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8" name="Text Box 73"/>
          <p:cNvSpPr/>
          <p:nvPr/>
        </p:nvSpPr>
        <p:spPr>
          <a:xfrm>
            <a:off x="0" y="4280040"/>
            <a:ext cx="1790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Text Box 81"/>
          <p:cNvSpPr/>
          <p:nvPr/>
        </p:nvSpPr>
        <p:spPr>
          <a:xfrm>
            <a:off x="0" y="5132520"/>
            <a:ext cx="194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0" name="Group 102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01" name="Group 98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02" name="Group 99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03" name="Group 10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4B9CE993-4E3B-4CC9-B860-DEB1177DEC9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-3240" y="5029200"/>
            <a:ext cx="9144000" cy="10206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179800"/>
            <a:ext cx="9144000" cy="9554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-3240" y="3200400"/>
            <a:ext cx="9144000" cy="84312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4084560"/>
            <a:ext cx="9144000" cy="86832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2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The responsibility for children’s ministry first belongs to parent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9400" y="331308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1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1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1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61FE4C3E-3AC6-4419-8800-D307B829790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Relevance to life is the basis for the applica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Bible tru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al content is the primary criteria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oosing curricula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high value they place o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Learning Biblical truth is the foundational objec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or all ag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3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cripture is the foundation of our content; relevance follow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3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3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33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74EC24B8-EB76-41F0-AC58-19503046E8D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3240" y="5141880"/>
            <a:ext cx="9144000" cy="8175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e memorization is a regular discipline encouraged in children’s ministry and in the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regular, specific training on how to integrate God’s Word into their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Materials for the home are promoted and made available to par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4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piritual training of children is the core lifestyle of the home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52280" y="422280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49400" y="5132520"/>
            <a:ext cx="177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4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4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48" name="Group 30"/>
          <p:cNvGrpSpPr/>
          <p:nvPr/>
        </p:nvGrpSpPr>
        <p:grpSpPr>
          <a:xfrm>
            <a:off x="344520" y="5532480"/>
            <a:ext cx="1387440" cy="317520"/>
            <a:chOff x="34452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34BC8A9A-7AF3-4800-8147-FF7EB5071DF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-3240" y="5197320"/>
            <a:ext cx="9144000" cy="86868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149560"/>
            <a:ext cx="9144000" cy="98568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3240" y="3230640"/>
            <a:ext cx="9144000" cy="10206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workers are trained to build and maintain a healthy, proper relationship with stud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 protection policies and procedures are defined and implemented consistentl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5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Every child feels safe and loved at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all times.</a:t>
            </a:r>
            <a:r>
              <a:rPr b="1" lang="en-US" sz="2400" spc="-1" strike="noStrike">
                <a:solidFill>
                  <a:srgbClr val="808000"/>
                </a:solidFill>
                <a:latin typeface="Humanst521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212760" y="4344840"/>
            <a:ext cx="171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149400" y="5132520"/>
            <a:ext cx="185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6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6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62" name="Group 23"/>
          <p:cNvGrpSpPr/>
          <p:nvPr/>
        </p:nvGrpSpPr>
        <p:grpSpPr>
          <a:xfrm>
            <a:off x="271440" y="4718160"/>
            <a:ext cx="1387440" cy="317520"/>
            <a:chOff x="271440" y="4718160"/>
            <a:chExt cx="1387440" cy="317520"/>
          </a:xfrm>
        </p:grpSpPr>
      </p:grpSp>
      <p:grpSp>
        <p:nvGrpSpPr>
          <p:cNvPr id="163" name="Group 30"/>
          <p:cNvGrpSpPr/>
          <p:nvPr/>
        </p:nvGrpSpPr>
        <p:grpSpPr>
          <a:xfrm>
            <a:off x="268200" y="5570640"/>
            <a:ext cx="1387440" cy="317520"/>
            <a:chOff x="268200" y="557064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B114D037-2640-4EFE-9F4A-E78FBD7AC56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-3240" y="5165640"/>
            <a:ext cx="9144000" cy="83844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2239920"/>
            <a:ext cx="9144000" cy="8953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pportunities abound for children to serve Go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 the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3240" y="3200400"/>
            <a:ext cx="9144000" cy="106668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6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serve God as soon as they are read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52280" y="240516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49400" y="3313080"/>
            <a:ext cx="1831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182520" y="4344840"/>
            <a:ext cx="1817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49400" y="5132520"/>
            <a:ext cx="181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7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7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77" name="Group 23"/>
          <p:cNvGrpSpPr/>
          <p:nvPr/>
        </p:nvGrpSpPr>
        <p:grpSpPr>
          <a:xfrm>
            <a:off x="271440" y="4699080"/>
            <a:ext cx="1387440" cy="363240"/>
            <a:chOff x="271440" y="4699080"/>
            <a:chExt cx="1387440" cy="363240"/>
          </a:xfrm>
        </p:grpSpPr>
      </p:grpSp>
      <p:grpSp>
        <p:nvGrpSpPr>
          <p:cNvPr id="17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6FE07698-DC54-4F94-B981-E145B6BB4AE1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5276880"/>
            <a:ext cx="9144000" cy="8589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vitation methods do not confuse the child or muddle the messag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2274840"/>
            <a:ext cx="9144000" cy="7272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are trained in how to pres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gospel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3240" y="3124080"/>
            <a:ext cx="9147240" cy="10098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4210200"/>
            <a:ext cx="9144000" cy="97128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gularly hear the gospel message and are allowed to respond as the Holy Spirit prompts them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7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’s workers communicate the gospel with clarity and urgenc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0" y="2343240"/>
            <a:ext cx="189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247680" y="5322960"/>
            <a:ext cx="171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290520" y="2709720"/>
            <a:ext cx="1387440" cy="317520"/>
            <a:chOff x="290520" y="2709720"/>
            <a:chExt cx="1387440" cy="317520"/>
          </a:xfrm>
        </p:grpSpPr>
      </p:grpSp>
      <p:grpSp>
        <p:nvGrpSpPr>
          <p:cNvPr id="19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9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93" name="Group 30"/>
          <p:cNvGrpSpPr/>
          <p:nvPr/>
        </p:nvGrpSpPr>
        <p:grpSpPr>
          <a:xfrm>
            <a:off x="344520" y="5684760"/>
            <a:ext cx="1387440" cy="317520"/>
            <a:chOff x="344520" y="568476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1FAB937A-81C9-4876-AEB0-FBAEC99C4D6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Evangelism of children is a priority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leadership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wn children to Christ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4130640"/>
            <a:ext cx="9144000" cy="91440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8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have regular opportunities to trust in Christ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49400" y="513252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20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20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20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16Z</dcterms:modified>
  <cp:revision>67</cp:revision>
  <dc:subject/>
  <dc:title>The Pattern of Teaching Children</dc:title>
</cp:coreProperties>
</file>