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move the slide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36FDC-8862-4B02-9139-556FD5ED41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Kids:  Assessing Your Children’s Ministr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Here is a matrix for you to use.  Each of the eight principles is based on a chapter in this book by Larry Fowler.  Each is listed, followed by four suggestions from the corresponding chapter as to how it might be accomplished in your church.  A blank line is included for you to add your own suggestions.  A rating scale is on the left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Here’s how to use it: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Use the scale for a pretest with your children’s workers.  See how they rate your ministry right now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Self-test once every six months.  Track your progres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Finally, use it as a tool for peer evaluation when you ask another church to come give you its perspective on how you are doing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0665B-B911-43D4-B81F-34DB7B82556A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Standards Scoring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F9B01-B8B8-4201-B9DE-D6F60090490E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1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40"/>
                </a:solidFill>
                <a:latin typeface="Humanst521 BT"/>
              </a:rPr>
              <a:t>Ministering to children is a high priorit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ministry is included in church objectiv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ministry leadership enjoys a “peer status” with the leaders of other ministr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urch budgeting reflects a priority on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Facility use and conditions reflect the importance of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cale:  1—Always true; 2—Trus most of the time; 3—Sometimes true; 4—Rarely true; 5—Never true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23F90-B5EE-4ADD-8F10-EF935BDCCABE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2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responsibility for children’s ministry first belongs to par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dults are regularly encouraged and equipped to relate what they are learning to their children at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deliberately act to involve parents in their child’s spiritual educatio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understand and take ownership of what their children are learning in the children’s ministr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majority of parents in the church place a high priority on the spiritual training of their own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0C33B-1AAA-4CA3-8504-075C83F5C76C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3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cripture is the foundation of our content; relevance follow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criptural content is the primary criteria in choosing curricula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consistently demonstrate the high value they place on God’s Word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Learning Biblical truth is the foundational objective for all ag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Relevance to life is the basis for the application of Bible trut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FA21A-3870-46DA-8D0F-7302AF3FF449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4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piritual training of children is the core lifestyle of the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 majority of parents regularly teach their children God’s Word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      Parents receive regular, specific training on how to integrate God’s Word into their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      Materials for the home are promoted and made available to par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Scripture memorization is a regular discipline encouraged in children’s ministry and in the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B6162-1896-4759-B951-AA4D34DF0522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5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Every child feels safe and loved at all tim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children’s ministries have a consistent, positive, and well-communicated system of disciplin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ren’s ministry workers are trained to build and maintain a healthy, proper relationship with stud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 protection policies and procedures are defined and implemented consistentl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are trained in how to discipline their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FC522-8B75-4AFC-AE97-5C4DABE843BF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6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 serve God as soon as they are read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Opportunities abound for children to serve God in the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tandards (including salvation) for serving are made clear before children are offered the opportunit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 receive training and close adult guidance for their ministry activit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145B4-1969-46CF-A880-38C1AB3D4547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7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’s workers communicate the gospel with clarity and urgenc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can express the gospel message and how children are to respond with saving fait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ren regularly hear the gospel message and are allowed to respond as the Holy Spirit prompts them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Invitation methods do not confuse the child or muddle the messag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F84BF-CDB4-4133-B981-3EEAF5DE72C2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8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 have regular opportunities to trust in Christ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Evangelism of children is a priority of the church leadership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receive training about how to lead their own children to Christ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llocation of church resources reflects a recognition of the fruitfulness of evangelizing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church sees much fruit in children trusting Christ as their Savior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9801F-7060-4715-B56D-4FCEDE86D229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73017-551F-49FE-8D78-86B3313561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D9A27-912E-4B0E-9739-91462423BC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7ABEF-BC21-4C43-B77B-7C8A324566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53260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59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53260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759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2A8F8-D3AA-44CC-8D2F-CAD2FF0523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0102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44B13-7020-49E8-803D-38590058BC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53260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59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53260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759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17EE8-BA9D-48F4-8967-3F7385523D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C7A38-D51C-458C-90D6-76F36F2FB7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0BB1D-1961-410E-B098-2535474728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0102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05D81-59CE-4859-A6C6-E35D5A678E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A735B-8759-4079-92EB-B041979F32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A7414-F37A-47CB-B33C-C611DB3681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4DCF0-7BEF-47CE-BF85-92C51AAA67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GraphicsFinal8"/>
          <p:cNvPicPr/>
          <p:nvPr/>
        </p:nvPicPr>
        <p:blipFill>
          <a:blip r:embed="rId2"/>
          <a:stretch/>
        </p:blipFill>
        <p:spPr>
          <a:xfrm>
            <a:off x="0" y="0"/>
            <a:ext cx="9144000" cy="2062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5467320"/>
            <a:ext cx="9144000" cy="139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faf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3064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Module 8-</a:t>
            </a:r>
            <a:fld id="{F3C31CE6-8B1A-4FBF-9727-35F7D8E8E1ED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0" y="6600960"/>
            <a:ext cx="13572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</a:rPr>
              <a:t>®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55"/>
          <p:cNvSpPr/>
          <p:nvPr/>
        </p:nvSpPr>
        <p:spPr>
          <a:xfrm>
            <a:off x="0" y="6600960"/>
            <a:ext cx="28954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  <a:ea typeface="Tahoma"/>
              </a:rPr>
              <a:t>®</a:t>
            </a: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.  All rights reserved.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741840" y="4354560"/>
            <a:ext cx="5402160" cy="13032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Humanst521 BT"/>
              </a:rPr>
              <a:t>Assessing Your</a:t>
            </a:r>
            <a:br>
              <a:rPr sz="3800"/>
            </a:br>
            <a:r>
              <a:rPr b="1" lang="en-US" sz="3800" spc="-1" strike="noStrike">
                <a:solidFill>
                  <a:srgbClr val="cc0000"/>
                </a:solidFill>
                <a:latin typeface="Humanst521 BT"/>
              </a:rPr>
              <a:t>Children’s Ministry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0C1E1D4A-AF7F-4ABC-A53D-A84B1DC07209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Humanst521 BT"/>
              </a:rPr>
              <a:t>Rock-Solid Standards Scoring</a:t>
            </a:r>
            <a:endParaRPr b="1" lang="en-US" sz="3400" spc="-1" strike="noStrike">
              <a:solidFill>
                <a:srgbClr val="ffffff"/>
              </a:solidFill>
              <a:latin typeface="Humanst521 BT"/>
            </a:endParaRPr>
          </a:p>
        </p:txBody>
      </p:sp>
      <p:graphicFrame>
        <p:nvGraphicFramePr>
          <p:cNvPr id="211" name="Object 4"/>
          <p:cNvGraphicFramePr/>
          <p:nvPr/>
        </p:nvGraphicFramePr>
        <p:xfrm>
          <a:off x="-1054080" y="1488960"/>
          <a:ext cx="10607760" cy="568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54080" y="1488960"/>
                    <a:ext cx="10607760" cy="56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4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D8516966-6DCF-47E4-BF4C-7D89AD496880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19102E61-126C-488E-80D5-23E6CF85006F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0" name="Rectangle 80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Facility use and conditions reflect the importance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1" name="Rectangle 108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is included in church objectiv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2" name="Rectangle 109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leadership enjoys a “peer status” with the leaders of other ministr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3" name="Rectangle 110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urch budgeting reflects a priority o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1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Ministering to children is a </a:t>
            </a:r>
            <a:br>
              <a:rPr sz="2800"/>
            </a:b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high priorit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0" y="2405160"/>
            <a:ext cx="1924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7" name="Text Box 64"/>
          <p:cNvSpPr/>
          <p:nvPr/>
        </p:nvSpPr>
        <p:spPr>
          <a:xfrm>
            <a:off x="0" y="3351240"/>
            <a:ext cx="1793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8" name="Text Box 73"/>
          <p:cNvSpPr/>
          <p:nvPr/>
        </p:nvSpPr>
        <p:spPr>
          <a:xfrm>
            <a:off x="0" y="4280040"/>
            <a:ext cx="1790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9" name="Text Box 81"/>
          <p:cNvSpPr/>
          <p:nvPr/>
        </p:nvSpPr>
        <p:spPr>
          <a:xfrm>
            <a:off x="0" y="5132520"/>
            <a:ext cx="1943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00" name="Group 102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01" name="Group 98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02" name="Group 99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03" name="Group 10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21786CF4-FB38-4304-8C7E-77DCC66C5B17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-3240" y="5029200"/>
            <a:ext cx="9144000" cy="10206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majority of parents in the church place a high priority on the spiritual training of their own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0" y="2179800"/>
            <a:ext cx="9144000" cy="9554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dults are regularly encouraged and equipped to relate what they are learning to their children at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-3240" y="3200400"/>
            <a:ext cx="9144000" cy="84312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deliberately act to involve parents in their child’s spiritual educatio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0" y="4084560"/>
            <a:ext cx="9144000" cy="86832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understand and take ownership of what their children are learning in the children’s ministr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2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The responsibility for children’s ministry first belongs to parents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149400" y="331308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3" name="Text Box 22"/>
          <p:cNvSpPr/>
          <p:nvPr/>
        </p:nvSpPr>
        <p:spPr>
          <a:xfrm>
            <a:off x="152280" y="4222800"/>
            <a:ext cx="1714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4" name="Text Box 29"/>
          <p:cNvSpPr/>
          <p:nvPr/>
        </p:nvSpPr>
        <p:spPr>
          <a:xfrm>
            <a:off x="149400" y="513252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1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1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1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AE934E3A-1DDA-4D0B-AEE2-22BDA3BFC07F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Relevance to life is the basis for the application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Bible trut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criptural content is the primary criteria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oosing curricula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consistently demonstrate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high value they place on God’s Word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Learning Biblical truth is the foundational objectiv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for all ag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3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Scripture is the foundation of our content; relevance follows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152280" y="2405160"/>
            <a:ext cx="1752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149400" y="3313080"/>
            <a:ext cx="1717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8" name="Text Box 22"/>
          <p:cNvSpPr/>
          <p:nvPr/>
        </p:nvSpPr>
        <p:spPr>
          <a:xfrm>
            <a:off x="152280" y="4222800"/>
            <a:ext cx="1733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149400" y="513252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30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3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32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33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020E51AE-4E9B-4DBF-9561-1683EE8ECD41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-3240" y="5141880"/>
            <a:ext cx="9144000" cy="81756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cripture memorization is a regular discipline encouraged in children’s ministry and in the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 majority of parents regularly teach their children God’s Word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receive regular, specific training on how to integrate God’s Word into their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Materials for the home are promoted and made available to parent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4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Spiritual training of children is the core lifestyle of the home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149400" y="3313080"/>
            <a:ext cx="1717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3" name="Text Box 22"/>
          <p:cNvSpPr/>
          <p:nvPr/>
        </p:nvSpPr>
        <p:spPr>
          <a:xfrm>
            <a:off x="152280" y="4222800"/>
            <a:ext cx="179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4" name="Text Box 29"/>
          <p:cNvSpPr/>
          <p:nvPr/>
        </p:nvSpPr>
        <p:spPr>
          <a:xfrm>
            <a:off x="149400" y="5132520"/>
            <a:ext cx="1774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4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4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4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48" name="Group 30"/>
          <p:cNvGrpSpPr/>
          <p:nvPr/>
        </p:nvGrpSpPr>
        <p:grpSpPr>
          <a:xfrm>
            <a:off x="344520" y="5532480"/>
            <a:ext cx="1387440" cy="317520"/>
            <a:chOff x="34452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D4A60A72-36EB-43AC-8F45-A8514F6DE7A3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-3240" y="5197320"/>
            <a:ext cx="9144000" cy="86868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are trained in how to discipline their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0" y="2149560"/>
            <a:ext cx="9144000" cy="98568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children’s ministries have a consistent, positive, and well-communicated system of disciplin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-3240" y="3230640"/>
            <a:ext cx="9144000" cy="10206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workers are trained to build and maintain a healthy, proper relationship with student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0" y="4343400"/>
            <a:ext cx="9144000" cy="77796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 protection policies and procedures are defined and implemented consistentl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5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219240" y="1122480"/>
            <a:ext cx="584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Every child feels safe and loved at </a:t>
            </a:r>
            <a:br>
              <a:rPr sz="2800"/>
            </a:b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all times.</a:t>
            </a:r>
            <a:r>
              <a:rPr b="1" lang="en-US" sz="2400" spc="-1" strike="noStrike">
                <a:solidFill>
                  <a:srgbClr val="808000"/>
                </a:solidFill>
                <a:latin typeface="Humanst521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152280" y="2405160"/>
            <a:ext cx="1752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8" name="Text Box 22"/>
          <p:cNvSpPr/>
          <p:nvPr/>
        </p:nvSpPr>
        <p:spPr>
          <a:xfrm>
            <a:off x="212760" y="4344840"/>
            <a:ext cx="1711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9" name="Text Box 29"/>
          <p:cNvSpPr/>
          <p:nvPr/>
        </p:nvSpPr>
        <p:spPr>
          <a:xfrm>
            <a:off x="149400" y="5132520"/>
            <a:ext cx="1850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60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6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62" name="Group 23"/>
          <p:cNvGrpSpPr/>
          <p:nvPr/>
        </p:nvGrpSpPr>
        <p:grpSpPr>
          <a:xfrm>
            <a:off x="271440" y="4718160"/>
            <a:ext cx="1387440" cy="317520"/>
            <a:chOff x="271440" y="4718160"/>
            <a:chExt cx="1387440" cy="317520"/>
          </a:xfrm>
        </p:grpSpPr>
      </p:grpSp>
      <p:grpSp>
        <p:nvGrpSpPr>
          <p:cNvPr id="163" name="Group 30"/>
          <p:cNvGrpSpPr/>
          <p:nvPr/>
        </p:nvGrpSpPr>
        <p:grpSpPr>
          <a:xfrm>
            <a:off x="268200" y="5570640"/>
            <a:ext cx="1387440" cy="317520"/>
            <a:chOff x="268200" y="557064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EBA72ADB-46F6-442B-B5CE-DD3E71EABDF6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-3240" y="5165640"/>
            <a:ext cx="9144000" cy="83844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0" y="2239920"/>
            <a:ext cx="9144000" cy="89532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Opportunities abound for children to serve Go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in the churc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-3240" y="3200400"/>
            <a:ext cx="9144000" cy="106668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tandards (including salvation) for serving are made clear before children are offered the opportunit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0" y="4343400"/>
            <a:ext cx="9144000" cy="77796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receive training and close adult guidance for their ministry activit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6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 serve God as soon as they are read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52280" y="2405160"/>
            <a:ext cx="179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149400" y="3313080"/>
            <a:ext cx="1831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3" name="Text Box 22"/>
          <p:cNvSpPr/>
          <p:nvPr/>
        </p:nvSpPr>
        <p:spPr>
          <a:xfrm>
            <a:off x="182520" y="4344840"/>
            <a:ext cx="1817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4" name="Text Box 29"/>
          <p:cNvSpPr/>
          <p:nvPr/>
        </p:nvSpPr>
        <p:spPr>
          <a:xfrm>
            <a:off x="149400" y="5132520"/>
            <a:ext cx="181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7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7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77" name="Group 23"/>
          <p:cNvGrpSpPr/>
          <p:nvPr/>
        </p:nvGrpSpPr>
        <p:grpSpPr>
          <a:xfrm>
            <a:off x="271440" y="4699080"/>
            <a:ext cx="1387440" cy="363240"/>
            <a:chOff x="271440" y="4699080"/>
            <a:chExt cx="1387440" cy="363240"/>
          </a:xfrm>
        </p:grpSpPr>
      </p:grpSp>
      <p:grpSp>
        <p:nvGrpSpPr>
          <p:cNvPr id="17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912F8E55-CA87-4A9C-B4FF-667D7F388B8B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0" y="5276880"/>
            <a:ext cx="9144000" cy="85896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Invitation methods do not confuse the child or muddle the messag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0" y="2274840"/>
            <a:ext cx="9144000" cy="72720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are trained in how to presen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gospel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-3240" y="3124080"/>
            <a:ext cx="9147240" cy="10098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can express the gospel message and how children are to respond with saving fait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0" y="4210200"/>
            <a:ext cx="9144000" cy="97128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regularly hear the gospel message and are allowed to respond as the Holy Spirit prompts them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7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219240" y="1122480"/>
            <a:ext cx="584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’s workers communicate the gospel with clarity and urgenc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0" y="2343240"/>
            <a:ext cx="1895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7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8" name="Text Box 22"/>
          <p:cNvSpPr/>
          <p:nvPr/>
        </p:nvSpPr>
        <p:spPr>
          <a:xfrm>
            <a:off x="152280" y="4222800"/>
            <a:ext cx="1714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9" name="Text Box 29"/>
          <p:cNvSpPr/>
          <p:nvPr/>
        </p:nvSpPr>
        <p:spPr>
          <a:xfrm>
            <a:off x="247680" y="5322960"/>
            <a:ext cx="1714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90" name="Group 9"/>
          <p:cNvGrpSpPr/>
          <p:nvPr/>
        </p:nvGrpSpPr>
        <p:grpSpPr>
          <a:xfrm>
            <a:off x="290520" y="2709720"/>
            <a:ext cx="1387440" cy="317520"/>
            <a:chOff x="290520" y="2709720"/>
            <a:chExt cx="1387440" cy="317520"/>
          </a:xfrm>
        </p:grpSpPr>
      </p:grpSp>
      <p:grpSp>
        <p:nvGrpSpPr>
          <p:cNvPr id="19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92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93" name="Group 30"/>
          <p:cNvGrpSpPr/>
          <p:nvPr/>
        </p:nvGrpSpPr>
        <p:grpSpPr>
          <a:xfrm>
            <a:off x="344520" y="5684760"/>
            <a:ext cx="1387440" cy="317520"/>
            <a:chOff x="344520" y="568476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9C91D47E-384C-46AB-B838-2B3DE99CCE16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church sees much fruit in children trusting Christ as their Savior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Evangelism of children is a priority of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urch leadership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receive training about how to lead their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own children to Christ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0" y="4130640"/>
            <a:ext cx="9144000" cy="91440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llocation of church resources reflects a recognition of the fruitfulness of evangelizing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8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 have regular opportunities to trust in Christ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2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152280" y="4222800"/>
            <a:ext cx="1733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4" name="Text Box 29"/>
          <p:cNvSpPr/>
          <p:nvPr/>
        </p:nvSpPr>
        <p:spPr>
          <a:xfrm>
            <a:off x="149400" y="5132520"/>
            <a:ext cx="1793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20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20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20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20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2:29:34Z</dcterms:created>
  <dc:creator>Larry Fowler</dc:creator>
  <dc:description/>
  <dc:language>en-US</dc:language>
  <cp:lastModifiedBy>Pamella Scott</cp:lastModifiedBy>
  <dcterms:modified xsi:type="dcterms:W3CDTF">2012-09-05T18:23:16Z</dcterms:modified>
  <cp:revision>67</cp:revision>
  <dc:subject/>
  <dc:title>The Pattern of Teaching Children</dc:title>
</cp:coreProperties>
</file>